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F493-782C-438A-B2D7-3C27112F3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42E4-3D18-46B3-9709-182AECD1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0F2A-4205-4CB5-956A-26379F73D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4AEF-FB1C-4336-83CC-CBC679D37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7BD0-4DF5-4F5C-A187-5FC7CC56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1B69-CD4F-440C-BBA2-BF1736CA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289E-C2D5-4385-AB9D-8909BC41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9583-0E5B-4992-8F92-8CCD6C73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7FF5-11B8-4695-9F24-C636796E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D0A7-A7E7-4C96-83F6-F0C749D7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931D-483C-45AA-B18A-080B117D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ED6F-37E7-4891-B7A1-4C466D25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6B57-674E-40C3-9CFE-B13C01A23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987640" y="3573360"/>
            <a:ext cx="460872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alibri"/>
              </a:rPr>
              <a:t>Angola Pi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24000" y="549360"/>
            <a:ext cx="2206800" cy="2735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003640" y="189000"/>
            <a:ext cx="3745080" cy="2808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227640" y="314172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kumbira fores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24000" y="3716280"/>
            <a:ext cx="3044520" cy="2027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00000" y="5877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alibri"/>
              </a:rPr>
              <a:t>Angola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184464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alibri"/>
              </a:rPr>
              <a:t>Jonas Savimbi, Famous Political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788000" y="4208400"/>
            <a:ext cx="3908160" cy="2482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635280" y="530064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alibri"/>
              </a:rPr>
              <a:t>Luanada, Angola’s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07:14:32Z</dcterms:created>
  <dc:creator>Gisela Sole</dc:creator>
  <dc:description/>
  <dc:language>en-US</dc:language>
  <cp:lastModifiedBy>Gisela Sole</cp:lastModifiedBy>
  <dcterms:modified xsi:type="dcterms:W3CDTF">2010-09-01T07:18:54Z</dcterms:modified>
  <cp:revision>2</cp:revision>
  <dc:subject/>
  <dc:title>Slide 1</dc:title>
</cp:coreProperties>
</file>